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13.jpeg" ContentType="image/jpeg"/>
  <Override PartName="/ppt/media/image27.jpeg" ContentType="image/jpeg"/>
  <Override PartName="/ppt/media/image30.wmf" ContentType="image/x-wmf"/>
  <Override PartName="/ppt/media/image10.wmf" ContentType="image/x-wmf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9.jpeg" ContentType="image/jpeg"/>
  <Override PartName="/ppt/media/image6.wmf" ContentType="image/x-wmf"/>
  <Override PartName="/ppt/media/image17.jpeg" ContentType="image/jpeg"/>
  <Override PartName="/ppt/media/image11.wmf" ContentType="image/x-wmf"/>
  <Override PartName="/ppt/media/image9.wmf" ContentType="image/x-wmf"/>
  <Override PartName="/ppt/media/image31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4.wmf" ContentType="image/x-wmf"/>
  <Override PartName="/ppt/media/image14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0.jpeg" ContentType="image/jpeg"/>
  <Override PartName="/ppt/media/image24.jpeg" ContentType="image/jpeg"/>
  <Override PartName="/ppt/media/image2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A874-D551-4E3C-9FF7-3ED429DB9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D54C-00A9-4D16-BCDB-595B2D010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9E1-778E-42DD-91AD-B7D1BC2D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B08C-EF50-4280-8D59-8C79FF0C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E6F-F0CC-41CA-A9B8-722927FB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3F35-5338-4A8F-9C1C-879FA69A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E2A2-733E-4C9F-A707-4DB16A3D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DCC1-BDB9-4C6A-B0AF-9BD94B35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63D4-53AD-4948-9C0D-D95CF66A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0AF7-4858-4073-B11B-C821BB9E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20F0-0FFB-4DB6-BD73-218EAC7A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B398-74FB-4694-86E3-14153FC9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57B5-4ABB-48ED-9140-16FE448B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093-BE2A-4915-9AB9-22C02E63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70C9-8567-4CC7-8D26-1C78C593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0974-5EAB-41C4-899B-4F9D18E4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727C-9E12-4864-B1E1-62FEF0D4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4208-40E8-4C55-B2FE-945A1DFC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0D60-71B7-40F6-814D-24367A65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3BCC6-01C2-4252-A5B2-CC52F1C8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0115C-F760-415D-992A-6A5D56AA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501E2-8AC6-4AE0-88E8-AEB880BA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D0B8E-EB5B-4FDE-9321-2EED0881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D9C1C-CD33-4698-81D3-60183337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FD91-F390-4F36-AB1D-F501B66E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06C74-174F-4A49-BFC6-6000794F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99BE7-7D3E-4C34-8C85-A7C0727A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BE016-907C-42D0-B19E-D038C819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E434E-10D1-45E7-A7EB-D8AB9E04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DA970-C7C3-4EAB-B8A3-3E126B2B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5EBEE-BE8F-4639-BBE7-6D4341D8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E35C6-FC28-401E-BF40-506BA125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71108-1868-4AF7-97A6-801AC4C0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B0E9C-3ED2-4463-BCF9-17174FDE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1A329-118F-4BD5-B15E-60AC4F9A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2FA-A7BB-4036-982B-6D340533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BB9BB-5D74-4699-BEE4-ACA82EE3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732CC-F69D-44B6-954D-C510262E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D59AE-629B-41B7-942B-C6A38161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B2565-F3B6-4877-8342-12EB2278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E586E-C626-40AB-A56D-4B2B1BD6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5F00F-0E5F-4348-99FB-4F37BCFA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A11E4-CBEF-4FBF-9429-E01C595F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65C2B-3C23-4924-9101-0242E42C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9126B-8A32-4044-B673-DA58F853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0D19E-B526-4862-AD00-DCC0BCE4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0F24-383C-4755-8E60-EA24FA49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60623-6A3F-47CB-9F0F-3809038B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BFD44-F9F3-460C-9ED0-860557FB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5EF5A-ADD4-41B6-BB4C-3A9D740A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F6A34-D11C-4A84-AC3D-80AEAD60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A794A-4792-48C6-891F-F9E296CA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8E940-E4D2-441C-8B05-F61D93D3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38D71-9609-47C6-B673-4B79F526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A06AD-5BAC-4949-A25E-90DDD7F0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37FAE-AD5F-4666-A903-8C1ACC5C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52480-E507-4237-9D2F-9E5E5A81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2C9-A582-4982-A5E8-73D26D63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68ABF-D7C3-4600-8ECD-57AEF99C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2B1-BA91-4C3E-8A76-05F43D47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4F2-8438-4948-88E9-52A49CA8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B749-2A79-46C3-9EEF-FBED74FB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DC48-C5CE-4556-80CB-01565F4EF4E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2FBB-5092-4057-A854-DD830A6AD9F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B0C9-57E5-4343-BA8F-3A03CA42A6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3DB4-7A0C-4373-853F-0DAAC7140F6C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8208-FCAA-4C6E-A388-7A1F8E4AC9C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ridges4kids.org/images/ring-around-rosie.gif&amp;imgrefurl=http://www.bridges4kids.org/Links.html&amp;h=166&amp;w=192&amp;sz=4&amp;tbnid=Cke5jMn5wmEJ:&amp;tbnh=84&amp;tbnw=97&amp;hl=en&amp;start=3&amp;prev=/images%3Fq%3Dring%2Baround%2Bthe%2Brosie%26hl%3Den%26lr%3D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rtve.es/tve/b/catalunya/index.htm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rtve.es/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hyperlink" Target="http://www.rtve.es/tve/b/loslunnis/lunalunera.htm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www.rtve.es/tve/b/loslunnis/personajes.htm" TargetMode="External"/><Relationship Id="rId10" Type="http://schemas.openxmlformats.org/officeDocument/2006/relationships/image" Target="../media/image18.jpeg"/><Relationship Id="rId11" Type="http://schemas.openxmlformats.org/officeDocument/2006/relationships/hyperlink" Target="http://www.rtve.es/tve/b/loslunnis/tierra.htm" TargetMode="External"/><Relationship Id="rId12" Type="http://schemas.openxmlformats.org/officeDocument/2006/relationships/image" Target="../media/image19.jpeg"/><Relationship Id="rId13" Type="http://schemas.openxmlformats.org/officeDocument/2006/relationships/hyperlink" Target="http://www.rtve.es/tve/b/loslunnis/recreo/recreo.htm" TargetMode="External"/><Relationship Id="rId14" Type="http://schemas.openxmlformats.org/officeDocument/2006/relationships/image" Target="../media/image20.jpeg"/><Relationship Id="rId15" Type="http://schemas.openxmlformats.org/officeDocument/2006/relationships/hyperlink" Target="http://www.rtve.es/tve/b/loslunnis/albumdefotos/fotos.htm" TargetMode="External"/><Relationship Id="rId16" Type="http://schemas.openxmlformats.org/officeDocument/2006/relationships/image" Target="../media/image21.jpeg"/><Relationship Id="rId17" Type="http://schemas.openxmlformats.org/officeDocument/2006/relationships/hyperlink" Target="http://www.rtve.es/tve/b/loslunnis/cancioneslunnis.htm" TargetMode="External"/><Relationship Id="rId18" Type="http://schemas.openxmlformats.org/officeDocument/2006/relationships/image" Target="../media/image22.jpeg"/><Relationship Id="rId19" Type="http://schemas.openxmlformats.org/officeDocument/2006/relationships/hyperlink" Target="http://www.rtve.es/tve/b/loslunnis/carta.htm" TargetMode="External"/><Relationship Id="rId20" Type="http://schemas.openxmlformats.org/officeDocument/2006/relationships/image" Target="../media/image23.jpeg"/><Relationship Id="rId21" Type="http://schemas.openxmlformats.org/officeDocument/2006/relationships/image" Target="../media/image24.jpeg"/><Relationship Id="rId22" Type="http://schemas.openxmlformats.org/officeDocument/2006/relationships/image" Target="../media/image25.jpeg"/><Relationship Id="rId23" Type="http://schemas.openxmlformats.org/officeDocument/2006/relationships/image" Target="../media/image26.jpeg"/><Relationship Id="rId24" Type="http://schemas.openxmlformats.org/officeDocument/2006/relationships/image" Target="../media/image27.jpeg"/><Relationship Id="rId25" Type="http://schemas.openxmlformats.org/officeDocument/2006/relationships/image" Target="../media/image28.png"/><Relationship Id="rId26" Type="http://schemas.openxmlformats.org/officeDocument/2006/relationships/image" Target="../media/image29.png"/><Relationship Id="rId27" Type="http://schemas.openxmlformats.org/officeDocument/2006/relationships/oleObject" Target="../embeddings/oleObject1.bin"/><Relationship Id="rId28" Type="http://schemas.openxmlformats.org/officeDocument/2006/relationships/image" Target="../media/image30.wmf"/><Relationship Id="rId2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6" descr="http://img06.deviantart.net/76a5/i/2013/031/7/6/music_notes_stock_by_bassgeisha-d3h9mpv.jpg"/>
          <p:cNvPicPr/>
          <p:nvPr/>
        </p:nvPicPr>
        <p:blipFill>
          <a:blip r:embed="rId1"/>
          <a:stretch/>
        </p:blipFill>
        <p:spPr>
          <a:xfrm>
            <a:off x="380880" y="1754280"/>
            <a:ext cx="857268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0" y="5029200"/>
            <a:ext cx="426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2"/>
                </a:solidFill>
                <a:latin typeface="Comic Sans MS"/>
                <a:ea typeface="Times New Roman"/>
              </a:rPr>
              <a:t>Karen Martín Sánch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2"/>
                </a:solidFill>
                <a:latin typeface="Comic Sans MS"/>
                <a:ea typeface="Times New Roman"/>
              </a:rPr>
              <a:t>South Seneca 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2"/>
                </a:solidFill>
                <a:latin typeface="Comic Sans MS"/>
                <a:ea typeface="Times New Roman"/>
              </a:rPr>
              <a:t>ksanchez@southseneca.or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419720" y="4952880"/>
            <a:ext cx="4724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2"/>
                </a:solidFill>
                <a:latin typeface="Comic Sans MS"/>
                <a:ea typeface="Times New Roman"/>
              </a:rPr>
              <a:t>NYSAFLT Rochester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2"/>
                </a:solidFill>
                <a:latin typeface="Comic Sans MS"/>
                <a:ea typeface="Times New Roman"/>
              </a:rPr>
              <a:t>Rochester, 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2"/>
                </a:solidFill>
                <a:latin typeface="Comic Sans MS"/>
                <a:ea typeface="Times New Roman"/>
              </a:rPr>
              <a:t>March 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1143000"/>
            <a:ext cx="914400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antando para Apre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80880" y="609480"/>
            <a:ext cx="8001000" cy="43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nto, pinto, gara p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cha las vacas al veinticin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los bueys a veintisé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que callej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moralej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arrate niña de esta orej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~~~~~~~~~~~~~~~~~~~~~~~~~~~~~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62040" y="0"/>
            <a:ext cx="56390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INTO PINTO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380880" y="609480"/>
            <a:ext cx="8001000" cy="43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to, pito, gorgor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e las vacas al veinticin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los bueys a veintisé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que callej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moralej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conde la mano que viene la viej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~~~~~~~~~~~~~~~~~~~~~~~~~~~~~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ITO PITO – VERSIÓN ALTERNATIVO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026"/>
          <p:cNvSpPr/>
          <p:nvPr/>
        </p:nvSpPr>
        <p:spPr>
          <a:xfrm>
            <a:off x="304920" y="1143000"/>
            <a:ext cx="7543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San Pedro como era calvo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Le picaban los mosquito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Y su padre le decía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“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¡ Ponte el gorro Perriquito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que te pican los mosquitos!”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027" descr="C:\WINDOWS\Application Data\Microsoft\Media Catalog\Downloaded Clips\cl1\AN04220_.wmf"/>
          <p:cNvPicPr/>
          <p:nvPr/>
        </p:nvPicPr>
        <p:blipFill>
          <a:blip r:embed="rId1"/>
          <a:stretch/>
        </p:blipFill>
        <p:spPr>
          <a:xfrm>
            <a:off x="4343400" y="4724280"/>
            <a:ext cx="1362240" cy="18129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SAN PEDRO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380880" y="1752480"/>
            <a:ext cx="80773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Caballito, cabal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Caballito, bandal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Vamos a la montañ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Eres tú quien yo más qui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~~~~~~~~~~~~~~~~~~~~~~~~~~~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is is a small poem usually used with little kids as they were bounced on someone’s lap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3" descr="C:\WINDOWS\Application Data\Microsoft\Media Catalog\Downloaded Clips\cl3\BD07898_.wmf"/>
          <p:cNvPicPr/>
          <p:nvPr/>
        </p:nvPicPr>
        <p:blipFill>
          <a:blip r:embed="rId1"/>
          <a:stretch/>
        </p:blipFill>
        <p:spPr>
          <a:xfrm>
            <a:off x="6400800" y="609480"/>
            <a:ext cx="2266920" cy="25909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CABALLITO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17524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Cinco lobitos tiene la lob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Cinco lobitos detrás de la escob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Cinco lavó, cinco peinó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Y todos ellos al colegio mandó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3" descr="C:\WINDOWS\Application Data\Microsoft\Media Catalog\Downloaded Clips\cl38\j0140657.wmf"/>
          <p:cNvPicPr/>
          <p:nvPr/>
        </p:nvPicPr>
        <p:blipFill>
          <a:blip r:embed="rId1"/>
          <a:stretch/>
        </p:blipFill>
        <p:spPr>
          <a:xfrm>
            <a:off x="6902280" y="3352680"/>
            <a:ext cx="2241720" cy="31752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LOS CINCO LOBITO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1676520"/>
            <a:ext cx="6858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Beep beep bee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En un coche fe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Beep beep bee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Pero no me import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Beep beep bee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Porque llevo torta!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Beep beep beep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3" descr="C:\My Documents\My Pictures\payasos.jpg"/>
          <p:cNvPicPr/>
          <p:nvPr/>
        </p:nvPicPr>
        <p:blipFill>
          <a:blip r:embed="rId1"/>
          <a:stretch/>
        </p:blipFill>
        <p:spPr>
          <a:xfrm>
            <a:off x="5181480" y="380880"/>
            <a:ext cx="3581640" cy="2414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C:\My Documents\My Pictures\payasos2.jpg"/>
          <p:cNvPicPr/>
          <p:nvPr/>
        </p:nvPicPr>
        <p:blipFill>
          <a:blip r:embed="rId2"/>
          <a:stretch/>
        </p:blipFill>
        <p:spPr>
          <a:xfrm>
            <a:off x="5105520" y="2819520"/>
            <a:ext cx="3647880" cy="25812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VAMOS DE PASEO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838080" y="1333440"/>
            <a:ext cx="63248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o, dos, tres y cuat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 vecina tiene un ga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 lava, lo peina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 manda por taba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da de merend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¡Chicha y pan!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3" descr="C:\WINDOWS\Application Data\Microsoft\Media Catalog\Downloaded Clips\cl2\PE07293_.wmf"/>
          <p:cNvPicPr/>
          <p:nvPr/>
        </p:nvPicPr>
        <p:blipFill>
          <a:blip r:embed="rId1"/>
          <a:stretch/>
        </p:blipFill>
        <p:spPr>
          <a:xfrm>
            <a:off x="5486400" y="3581280"/>
            <a:ext cx="25192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914400" y="533520"/>
            <a:ext cx="441972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ngo tengo teng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ú no tienes na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ngo tres ovej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una cabañ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me da lech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a me da lana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otra mantequill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da la seman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ballito blan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ácame de aqu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lévame a cas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ónde yo nací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3" descr="C:\WINDOWS\Application Data\Microsoft\Media Catalog\Downloaded Clips\cl0\BS01225_.wmf"/>
          <p:cNvPicPr/>
          <p:nvPr/>
        </p:nvPicPr>
        <p:blipFill>
          <a:blip r:embed="rId1"/>
          <a:stretch/>
        </p:blipFill>
        <p:spPr>
          <a:xfrm>
            <a:off x="5029200" y="1676520"/>
            <a:ext cx="3505320" cy="24717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NGO TENGO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685800" y="533520"/>
            <a:ext cx="464832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Los pollitos dic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Pío, pío, pío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Cuando tienen hamb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Cuando tienen frí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La gallina bus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El maíz y el trig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Les da la comi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Y les presta abrig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Bajo sus dos ala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Acurrucadito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Hasta el otro día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Duermen los pollitos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3" descr="C:\WINDOWS\Application Data\Microsoft\Media Catalog\Downloaded Clips\cl38\j0141497.wmf"/>
          <p:cNvPicPr/>
          <p:nvPr/>
        </p:nvPicPr>
        <p:blipFill>
          <a:blip r:embed="rId1"/>
          <a:stretch/>
        </p:blipFill>
        <p:spPr>
          <a:xfrm>
            <a:off x="5562720" y="1371600"/>
            <a:ext cx="3352680" cy="26906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LOS POLLITOS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304920" y="1905120"/>
            <a:ext cx="5029200" cy="38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l corro la pat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Comeremos ensa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Lo que comen los señ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Naranjitas y lim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upe, aup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¡ Sentadita me quedé!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4" descr="http://images.google.com/images?q=tbn:Cke5jMn5wmEJ:www.bridges4kids.org/images/ring-around-rosi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1219320"/>
            <a:ext cx="2743200" cy="2377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L CORRO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026"/>
          <p:cNvSpPr/>
          <p:nvPr/>
        </p:nvSpPr>
        <p:spPr>
          <a:xfrm>
            <a:off x="2209680" y="1828800"/>
            <a:ext cx="4114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?????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¿ QUÉ ES“CULTURA”?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3"/>
          <p:cNvSpPr/>
          <p:nvPr/>
        </p:nvSpPr>
        <p:spPr>
          <a:xfrm>
            <a:off x="1447920" y="0"/>
            <a:ext cx="571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04920" y="914400"/>
            <a:ext cx="8839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enas noches, hasta mañ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 lunnis y los niñ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s vamos a la c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s vamos a la cama, nos vamos a la cam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s vamos a la cama, hasta maña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-2995560" y="-1293840"/>
            <a:ext cx="31892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22"/>
          <p:cNvGrpSpPr/>
          <p:nvPr/>
        </p:nvGrpSpPr>
        <p:grpSpPr>
          <a:xfrm>
            <a:off x="-2995560" y="-1819440"/>
            <a:ext cx="10672560" cy="536760"/>
            <a:chOff x="-2995560" y="-1819440"/>
            <a:chExt cx="10672560" cy="536760"/>
          </a:xfrm>
        </p:grpSpPr>
        <p:grpSp>
          <p:nvGrpSpPr>
            <p:cNvPr id="275" name="Group 19"/>
            <p:cNvGrpSpPr/>
            <p:nvPr/>
          </p:nvGrpSpPr>
          <p:grpSpPr>
            <a:xfrm>
              <a:off x="-2995560" y="-1819440"/>
              <a:ext cx="10672560" cy="68400"/>
              <a:chOff x="-2995560" y="-1819440"/>
              <a:chExt cx="10672560" cy="68400"/>
            </a:xfrm>
          </p:grpSpPr>
          <p:sp>
            <p:nvSpPr>
              <p:cNvPr id="276" name="Rectangle 18"/>
              <p:cNvSpPr/>
              <p:nvPr/>
            </p:nvSpPr>
            <p:spPr>
              <a:xfrm>
                <a:off x="-2995560" y="-1819440"/>
                <a:ext cx="10672560" cy="6840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6"/>
              <p:cNvSpPr/>
              <p:nvPr/>
            </p:nvSpPr>
            <p:spPr>
              <a:xfrm>
                <a:off x="-2995560" y="-1819440"/>
                <a:ext cx="10672560" cy="6840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Group 11"/>
            <p:cNvGrpSpPr/>
            <p:nvPr/>
          </p:nvGrpSpPr>
          <p:grpSpPr>
            <a:xfrm>
              <a:off x="-2995560" y="-1750680"/>
              <a:ext cx="3188880" cy="459720"/>
              <a:chOff x="-2995560" y="-1750680"/>
              <a:chExt cx="3188880" cy="459720"/>
            </a:xfrm>
          </p:grpSpPr>
          <p:sp>
            <p:nvSpPr>
              <p:cNvPr id="279" name="Rectangle 7"/>
              <p:cNvSpPr/>
              <p:nvPr/>
            </p:nvSpPr>
            <p:spPr>
              <a:xfrm>
                <a:off x="-2995560" y="-1750680"/>
                <a:ext cx="318888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8"/>
              <p:cNvSpPr/>
              <p:nvPr/>
            </p:nvSpPr>
            <p:spPr>
              <a:xfrm>
                <a:off x="-2995560" y="-1750680"/>
                <a:ext cx="2698560" cy="45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Group 21"/>
            <p:cNvGrpSpPr/>
            <p:nvPr/>
          </p:nvGrpSpPr>
          <p:grpSpPr>
            <a:xfrm>
              <a:off x="193320" y="-1750680"/>
              <a:ext cx="6644880" cy="457200"/>
              <a:chOff x="193320" y="-1750680"/>
              <a:chExt cx="6644880" cy="457200"/>
            </a:xfrm>
          </p:grpSpPr>
          <p:sp>
            <p:nvSpPr>
              <p:cNvPr id="282" name="Rectangle 20"/>
              <p:cNvSpPr/>
              <p:nvPr/>
            </p:nvSpPr>
            <p:spPr>
              <a:xfrm>
                <a:off x="193320" y="-1750680"/>
                <a:ext cx="6644880" cy="45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Rectangle 12"/>
              <p:cNvSpPr/>
              <p:nvPr/>
            </p:nvSpPr>
            <p:spPr>
              <a:xfrm>
                <a:off x="193320" y="-1750680"/>
                <a:ext cx="6644880" cy="45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Group 16"/>
            <p:cNvGrpSpPr/>
            <p:nvPr/>
          </p:nvGrpSpPr>
          <p:grpSpPr>
            <a:xfrm>
              <a:off x="-2995560" y="-1293480"/>
              <a:ext cx="8800920" cy="10800"/>
              <a:chOff x="-2995560" y="-1293480"/>
              <a:chExt cx="8800920" cy="10800"/>
            </a:xfrm>
          </p:grpSpPr>
          <p:sp>
            <p:nvSpPr>
              <p:cNvPr id="285" name="Rectangle 14"/>
              <p:cNvSpPr/>
              <p:nvPr/>
            </p:nvSpPr>
            <p:spPr>
              <a:xfrm>
                <a:off x="-2995560" y="-1293480"/>
                <a:ext cx="88009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Rectangle 15"/>
              <p:cNvSpPr/>
              <p:nvPr/>
            </p:nvSpPr>
            <p:spPr>
              <a:xfrm>
                <a:off x="-2995560" y="-1293480"/>
                <a:ext cx="88009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Rectangle 17"/>
            <p:cNvSpPr/>
            <p:nvPr/>
          </p:nvSpPr>
          <p:spPr>
            <a:xfrm>
              <a:off x="5805360" y="-1293480"/>
              <a:ext cx="2502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29"/>
          <p:cNvGrpSpPr/>
          <p:nvPr/>
        </p:nvGrpSpPr>
        <p:grpSpPr>
          <a:xfrm>
            <a:off x="-2995560" y="-1282680"/>
            <a:ext cx="15136920" cy="457560"/>
            <a:chOff x="-2995560" y="-1282680"/>
            <a:chExt cx="15136920" cy="457560"/>
          </a:xfrm>
        </p:grpSpPr>
        <p:sp>
          <p:nvSpPr>
            <p:cNvPr id="289" name="Rectangle 23"/>
            <p:cNvSpPr/>
            <p:nvPr/>
          </p:nvSpPr>
          <p:spPr>
            <a:xfrm>
              <a:off x="-2995560" y="-1282680"/>
              <a:ext cx="880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25"/>
            <p:cNvSpPr/>
            <p:nvPr/>
          </p:nvSpPr>
          <p:spPr>
            <a:xfrm>
              <a:off x="5805720" y="-1282680"/>
              <a:ext cx="633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26"/>
            <p:cNvSpPr/>
            <p:nvPr/>
          </p:nvSpPr>
          <p:spPr>
            <a:xfrm>
              <a:off x="-2995560" y="-825480"/>
              <a:ext cx="8801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28"/>
            <p:cNvSpPr/>
            <p:nvPr/>
          </p:nvSpPr>
          <p:spPr>
            <a:xfrm>
              <a:off x="5805720" y="-825480"/>
              <a:ext cx="6335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3" name="Picture 9" descr="http://www.rtve.es/tve/b/catalunya/imgmenus/tvecas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827440" y="-1704960"/>
            <a:ext cx="2400480" cy="239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3" descr="http://www.rtve.es/tve/b/catalunya/imgmenus/rtv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-1704960"/>
            <a:ext cx="1143000" cy="217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4" descr="http://www.rtve.es/tve/b/loslunnis/img/fons04sup.jpg"/>
          <p:cNvPicPr/>
          <p:nvPr/>
        </p:nvPicPr>
        <p:blipFill>
          <a:blip r:embed="rId5"/>
          <a:stretch/>
        </p:blipFill>
        <p:spPr>
          <a:xfrm>
            <a:off x="-2827440" y="-1236600"/>
            <a:ext cx="2389320" cy="182520"/>
          </a:xfrm>
          <a:prstGeom prst="rect">
            <a:avLst/>
          </a:prstGeom>
          <a:ln w="0">
            <a:noFill/>
          </a:ln>
        </p:spPr>
      </p:pic>
      <p:grpSp>
        <p:nvGrpSpPr>
          <p:cNvPr id="296" name="Group 5"/>
          <p:cNvGrpSpPr/>
          <p:nvPr/>
        </p:nvGrpSpPr>
        <p:grpSpPr>
          <a:xfrm>
            <a:off x="-2827440" y="-779400"/>
            <a:ext cx="46440" cy="857520"/>
            <a:chOff x="-2827440" y="-779400"/>
            <a:chExt cx="46440" cy="857520"/>
          </a:xfrm>
        </p:grpSpPr>
        <p:pic>
          <p:nvPicPr>
            <p:cNvPr id="297" name="Picture 31" descr="http://www.rtve.es/tve/b/loslunnis/img/menulateralizq.jpg"/>
            <p:cNvPicPr/>
            <p:nvPr/>
          </p:nvPicPr>
          <p:blipFill>
            <a:blip r:embed="rId6"/>
            <a:stretch/>
          </p:blipFill>
          <p:spPr>
            <a:xfrm>
              <a:off x="-2827440" y="-638640"/>
              <a:ext cx="1080" cy="47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69"/>
            <p:cNvSpPr/>
            <p:nvPr/>
          </p:nvSpPr>
          <p:spPr>
            <a:xfrm>
              <a:off x="-2824200" y="-613800"/>
              <a:ext cx="4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68"/>
            <p:cNvSpPr/>
            <p:nvPr/>
          </p:nvSpPr>
          <p:spPr>
            <a:xfrm>
              <a:off x="-2814480" y="-779400"/>
              <a:ext cx="24120" cy="473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Oval 67"/>
            <p:cNvSpPr/>
            <p:nvPr/>
          </p:nvSpPr>
          <p:spPr>
            <a:xfrm>
              <a:off x="-2823840" y="-626040"/>
              <a:ext cx="35640" cy="704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1" name="Picture 35" descr="http://www.rtve.es/tve/b/loslunnis/menupag/lunera2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-2859120" y="195120"/>
            <a:ext cx="1828800" cy="343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7" descr="http://www.rtve.es/tve/b/loslunnis/menupag/personajes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-2827440" y="820800"/>
            <a:ext cx="1828800" cy="342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9" descr="http://www.rtve.es/tve/b/loslunnis/menupag/amigos1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-2827440" y="1643040"/>
            <a:ext cx="1828800" cy="343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1" descr="http://www.rtve.es/tve/b/loslunnis/menupag/recreo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-2827440" y="2465280"/>
            <a:ext cx="1828800" cy="343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3" descr="http://www.rtve.es/tve/b/loslunnis/menupag/fotos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-2827440" y="3287880"/>
            <a:ext cx="1828800" cy="342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5" descr="http://www.rtve.es/tve/b/loslunnis/menupag/canciones1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-2827440" y="4110120"/>
            <a:ext cx="1828800" cy="3427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7" descr="http://www.rtve.es/tve/b/loslunnis/menupag/carta1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-2827440" y="4932360"/>
            <a:ext cx="1828800" cy="343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9" descr="http://www.rtve.es/tve/b/loslunnis/menupag/emision1.jpg"/>
          <p:cNvPicPr/>
          <p:nvPr/>
        </p:nvPicPr>
        <p:blipFill>
          <a:blip r:embed="rId21"/>
          <a:stretch/>
        </p:blipFill>
        <p:spPr>
          <a:xfrm>
            <a:off x="-2827440" y="5754600"/>
            <a:ext cx="1828800" cy="3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1" descr="http://www.rtve.es/tve/b/loslunnis/menupag/serie1.jpg"/>
          <p:cNvPicPr/>
          <p:nvPr/>
        </p:nvPicPr>
        <p:blipFill>
          <a:blip r:embed="rId22"/>
          <a:stretch/>
        </p:blipFill>
        <p:spPr>
          <a:xfrm>
            <a:off x="-2725560" y="6576840"/>
            <a:ext cx="1828800" cy="343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3" descr="aprendemos inglés"/>
          <p:cNvPicPr/>
          <p:nvPr/>
        </p:nvPicPr>
        <p:blipFill>
          <a:blip r:embed="rId23"/>
          <a:stretch/>
        </p:blipFill>
        <p:spPr>
          <a:xfrm>
            <a:off x="-2725560" y="7034040"/>
            <a:ext cx="1828800" cy="343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9" descr="http://www.rtve.es/tve/b/loslunnis/img/menulateral.jpg"/>
          <p:cNvPicPr/>
          <p:nvPr/>
        </p:nvPicPr>
        <p:blipFill>
          <a:blip r:embed="rId24"/>
          <a:stretch/>
        </p:blipFill>
        <p:spPr>
          <a:xfrm>
            <a:off x="-2827440" y="7902720"/>
            <a:ext cx="1828800" cy="1141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1" descr="http://www.manosalarte.com/los%20lunnis/s14-loslunnis1.gif"/>
          <p:cNvPicPr/>
          <p:nvPr/>
        </p:nvPicPr>
        <p:blipFill>
          <a:blip r:embed="rId25"/>
          <a:stretch/>
        </p:blipFill>
        <p:spPr>
          <a:xfrm>
            <a:off x="762120" y="4876920"/>
            <a:ext cx="6994440" cy="13255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6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ENAS NOCH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4" name="Los Lunis - Hasta Mañana.mp3" descr=""/>
          <p:cNvPicPr/>
          <p:nvPr/>
        </p:nvPicPr>
        <p:blipFill>
          <a:blip r:embed="rId26"/>
          <a:stretch/>
        </p:blipFill>
        <p:spPr>
          <a:xfrm>
            <a:off x="8381880" y="2286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5" name="DefaultOcx"/>
          <p:cNvGraphicFramePr/>
          <p:nvPr/>
        </p:nvGraphicFramePr>
        <p:xfrm>
          <a:off x="-2995560" y="-1819440"/>
          <a:ext cx="6389640" cy="5716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16" name="DefaultOcx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-2995560" y="-1819440"/>
                    <a:ext cx="6389640" cy="571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436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AS PARA USAR EN CLAS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Text Box 1027"/>
          <p:cNvSpPr/>
          <p:nvPr/>
        </p:nvSpPr>
        <p:spPr>
          <a:xfrm>
            <a:off x="152280" y="1219320"/>
            <a:ext cx="85345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acticar pronunci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a una rúb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rea de grabar en “Google Voz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tar villanc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deos en Youtu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AS PARA USAR EN CLAS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0" name="Text Box 1027"/>
          <p:cNvSpPr/>
          <p:nvPr/>
        </p:nvSpPr>
        <p:spPr>
          <a:xfrm>
            <a:off x="152280" y="1219320"/>
            <a:ext cx="88394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ctura con espacios en blan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vantar cuando oyen su palab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ñadir un párraf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uar or usar títe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334120" cy="66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2057400" y="574560"/>
            <a:ext cx="4843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PREGUNTAS?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REN MARTÍN SÁNCHE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SANCHEZ@SOUTHSENECA.ORG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4" name="TextBox 2"/>
          <p:cNvSpPr/>
          <p:nvPr/>
        </p:nvSpPr>
        <p:spPr>
          <a:xfrm>
            <a:off x="2514600" y="547848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howcard Gothic"/>
              </a:rPr>
              <a:t>¡Gracia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3"/>
          <p:cNvSpPr/>
          <p:nvPr/>
        </p:nvSpPr>
        <p:spPr>
          <a:xfrm>
            <a:off x="1219320" y="1066680"/>
            <a:ext cx="6553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ltura es una combinación de pensamientos, sentimientos, actitudes, creencias, valores y comportamientos que son compartidos por un grupo  racial, étnico, religioso o soci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A DEFINICIÓN DE CULTURA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228600" y="685800"/>
            <a:ext cx="380988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cial ex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ligious belie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ligious ritu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ortance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in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ild-raising belie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9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s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eas about lead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1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liday cust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eas about fair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3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eas about friend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4114800" y="762120"/>
            <a:ext cx="502920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4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eas about mode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5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ting ha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7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derstanding of the natural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8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pt of 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9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ortance of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0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pt of beau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1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2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yles of 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3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 world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pt of personal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5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ules of social etique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6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 OF CULTURE (PEACE CORPS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CULTURA EN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NCIONES INFANTILES</a:t>
            </a:r>
            <a:endParaRPr b="0" lang="en-US" sz="6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258840" y="152280"/>
            <a:ext cx="8885160" cy="60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umenta el vocabul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utén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imina “¿cómo se canta….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ena entrada a conversaciones sobre cul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muestra diferencias region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NEFICIOS DE USAR CANCIONES INFANTI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920" y="27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ES DE EMPEZ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7" name="Text Box 1027"/>
          <p:cNvSpPr/>
          <p:nvPr/>
        </p:nvSpPr>
        <p:spPr>
          <a:xfrm>
            <a:off x="152280" y="1219320"/>
            <a:ext cx="85345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quiliza los que “no pueden canta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 jugue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ije una canción con palabras que ya conoc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ieza con algo senci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990720" y="1676520"/>
            <a:ext cx="5257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abla el chuch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 no te escuch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4" descr="C:\Documents and Settings\Karen\Application Data\Microsoft\Media Catalog\Downloaded Clips\cl70\j0280865.wmf"/>
          <p:cNvPicPr/>
          <p:nvPr/>
        </p:nvPicPr>
        <p:blipFill>
          <a:blip r:embed="rId1"/>
          <a:stretch/>
        </p:blipFill>
        <p:spPr>
          <a:xfrm>
            <a:off x="4952880" y="3581280"/>
            <a:ext cx="21718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533520" y="1447920"/>
            <a:ext cx="6553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 fue al mo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 encontró un hue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 fue a por leñ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 lo frió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 este lo comi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¡ Mira que gordito quedó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6" descr="C:\Documents and Settings\KSANCHEZ\Application Data\Microsoft\Media Catalog\Downloaded Clips\cl5b\j0229879.wmf"/>
          <p:cNvPicPr/>
          <p:nvPr/>
        </p:nvPicPr>
        <p:blipFill>
          <a:blip r:embed="rId1"/>
          <a:stretch/>
        </p:blipFill>
        <p:spPr>
          <a:xfrm>
            <a:off x="5867280" y="1905120"/>
            <a:ext cx="2843280" cy="29718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 MON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15:59:37Z</dcterms:created>
  <dc:creator>TLAPOINT</dc:creator>
  <dc:description/>
  <dc:language>en-US</dc:language>
  <cp:lastModifiedBy>Karen Sanchez</cp:lastModifiedBy>
  <dcterms:modified xsi:type="dcterms:W3CDTF">2016-03-04T18:29:41Z</dcterms:modified>
  <cp:revision>104</cp:revision>
  <dc:subject/>
  <dc:title>PowerPoint Presentation</dc:title>
</cp:coreProperties>
</file>